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7BC4-1F1C-49C9-B491-6396B95C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6711-06B3-45D4-B4A5-D24E095E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E276-EAF0-4DD3-9635-65DE7CB0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F13F-0864-464B-A278-B89848D5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DBA0-EB02-40D9-9964-C5411ED0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8679-DB82-4277-8F37-5C72974C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0F37-D2D5-4195-8617-9EB18C3C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1CF9-E7D4-4CC8-9E51-F52AC6B5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AD0D-A2B2-4B31-BD7D-602C61A5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D6BA-7030-469B-A1D1-5E9AD8D5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E28C-582B-4527-9FB2-5031C9D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7C5D-BAB5-4B6F-A7D5-31263917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BD0D-ED45-475C-BB64-3CD74E97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D51B-7848-43E8-8F4E-D51B4EC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0B49-8056-49BD-A0EA-E1A17A6A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DD60-9AA7-4F2D-B1DD-4E9CA9EF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12A7-69E4-4ECB-B0A7-E1146728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3422-33C6-4C69-88F7-5AF7D887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5462-58D9-4505-90BA-2D0E7A29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C133-2B74-49A1-9427-17E3C6AE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AB81-5E2A-413C-ADB0-FB888D06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2674-AF31-4D01-89A0-6BA491CD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A31B-7E57-43E2-A0A4-2742B38E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94A1-D7EA-4DAF-8B8F-6875DA2A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C61B-6F92-449D-B2E6-5B99206E44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C79D-CF8C-43F2-A694-F302F0B521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GIVE US A KING”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e United Kingdom,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art 2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“The Reign of Solomon”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Kings 1:1-53; 1 Chron. 29:22-2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ges 107-11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410080" y="228600"/>
            <a:ext cx="358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-rogel Spring: (Job's Well) This spring or well lay just outside the southern walls of Jerusalem, a little over 300 feet south of where the Hinnom and Kidron valleys join. It is today referred to as Job's Well. The name "En-rogel" means "fountain of a traveller" in the Hebrew. The well was used to mark the northern boundary of Judah (Josh. 15:7).  It was here that David's son Adonijah attempted to have himself proclaimed heir to David's throne (1 Kings 1:9).  In response, the prophet Nathan prompted Bathsheba to go to David to have him proclaim her son Solomon as king (1 Kings 1:11-1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886200"/>
            <a:ext cx="762120" cy="228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408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657600" y="2971800"/>
            <a:ext cx="91440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34120" y="24382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nnom Valley from Mount Z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au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avi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Solom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et’s Set The Stage -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is 70 years old – frail and near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selected Solomon, David’s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n, to rule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mon – young and inexperi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announced that Solomon would  succe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gave him the blueprints of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gave him the materials and organized the people to build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Brief Survey of the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fe of Solom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bellion of Adonij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deal with David’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God for wis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ication of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 from the Queen of 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arriages with foreig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falling way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1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was frail, bedfast and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sh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 beautiful young virgin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ried to keep him war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came his nur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plotted to seize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donijah was David’s fourth s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pected to be the next king – Amnon, Chileab and Absalom were dea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5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said, “I will be ki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knew Solomon was to be the k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sembled Joab, Abiathar, his brothers, and some of David’s official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lanned to conduct a special sacrifice at En-rog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, Benaiah, the mighty men and Solomon were not inv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Counterplot By Nathan 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10-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 revealed the plot to Bath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ad a plan to counter the rebelli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hsheba told David about the plot and that Adonija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 confirmed th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e Command By David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7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28-40; 1 Chron. 29:22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made an oath to Bath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ordered Solomon to be anointed king 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is to ride in on David’s mu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nounce: “Long live King Solomon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dok, the high priest, did exactly as David instru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elebration among the people of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41-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’s people heard the celeb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nathan, Abiathar’s son, brought the news to Adonij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feared for his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veryone fl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held on to the altar hor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asked for mercy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olomon let him live on condi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bowed before Solomon and went ho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6:58:45Z</dcterms:created>
  <dc:creator>Frank D Vines</dc:creator>
  <dc:description/>
  <dc:language>en-US</dc:language>
  <cp:lastModifiedBy>Frank D Vines</cp:lastModifiedBy>
  <cp:lastPrinted>2005-04-26T19:53:42Z</cp:lastPrinted>
  <dcterms:modified xsi:type="dcterms:W3CDTF">2005-07-31T13:15:17Z</dcterms:modified>
  <cp:revision>19</cp:revision>
  <dc:subject/>
  <dc:title>GIVE US A KING The United Kingdom, Part 2</dc:title>
</cp:coreProperties>
</file>